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2E9-8A5D-42D5-9F4B-B2D4463F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C90-152C-49FD-AB41-0629549E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0A8-DDDD-48ED-A29D-72FA4622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A72-B2C0-4F1D-B603-77E844AD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8253-CE86-4C5A-9DC1-6CAD80D9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E830-87A7-4D26-A566-907D6C8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4AB8-02BB-425A-BC90-274E561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6873-5FE8-4C02-8C8B-68FCA272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184-D086-42DA-ADBC-B119BE66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B243-44AC-42A4-95FB-0CA85EEA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CEB6-EB08-4E09-BD06-9C28F82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6A5-3EA4-4A25-9D3A-F0A214AE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7EC5-0EBD-4C5D-8ADF-B0FB4966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413-E2BE-45FC-8A7C-00D0E4A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E7FB-B052-43D7-81F1-FB7210D0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BEB-B3C0-4C0D-856A-B6D8B905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B185-8946-4CE1-8079-5FC7F9DC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9C6-436B-405A-ABDB-8DBE6BFB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6CD-0F38-4496-A51F-9F839566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8E7-DD18-4D11-8C93-815D4D44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9B9-8D0B-4B7D-840D-6460DF91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AE8-8C9C-48E7-8329-D7D64B5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D96-2F27-4036-ACB1-0DEB3FCF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F4F-5C4B-4ED0-BCE3-F371819E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182880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2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4"/>
            <p:cNvPicPr/>
            <p:nvPr/>
          </p:nvPicPr>
          <p:blipFill>
            <a:blip r:embed="rId5"/>
            <a:stretch/>
          </p:blipFill>
          <p:spPr>
            <a:xfrm>
              <a:off x="810108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Picture 8" descr="ti"/>
          <p:cNvPicPr/>
          <p:nvPr/>
        </p:nvPicPr>
        <p:blipFill>
          <a:blip r:embed="rId7"/>
          <a:stretch/>
        </p:blipFill>
        <p:spPr>
          <a:xfrm>
            <a:off x="1066680" y="1219320"/>
            <a:ext cx="7010640" cy="87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250A-2E24-48AF-A911-C6C17575CC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4960" y="175248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2"/>
            <p:cNvPicPr/>
            <p:nvPr/>
          </p:nvPicPr>
          <p:blipFill>
            <a:blip r:embed="rId4"/>
            <a:stretch/>
          </p:blipFill>
          <p:spPr>
            <a:xfrm>
              <a:off x="802656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4"/>
            <p:cNvPicPr/>
            <p:nvPr/>
          </p:nvPicPr>
          <p:blipFill>
            <a:blip r:embed="rId5"/>
            <a:stretch/>
          </p:blipFill>
          <p:spPr>
            <a:xfrm>
              <a:off x="8026560" y="571500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63868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8" descr="ti"/>
          <p:cNvPicPr/>
          <p:nvPr/>
        </p:nvPicPr>
        <p:blipFill>
          <a:blip r:embed="rId7"/>
          <a:stretch/>
        </p:blipFill>
        <p:spPr>
          <a:xfrm>
            <a:off x="762120" y="2743200"/>
            <a:ext cx="7696080" cy="102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33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B0A7-2F32-41EC-A7FA-8D054C8F8516}" type="slidenum">
              <a:rPr b="0" lang="en-US" sz="1200" spc="-1" strike="noStrike">
                <a:solidFill>
                  <a:srgbClr val="666633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kkang@lignex1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LIG</a:t>
            </a:r>
            <a:r>
              <a:rPr b="1" lang="ko-KR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넥스원 채용설명회 및 채용면담</a:t>
            </a:r>
            <a:endParaRPr b="0" lang="en-US" sz="36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LIG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넥스원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2008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년 하반기 신입사원 공채와 관련하여 채용설명회 및 채용면담 일정을 아래와 같이 안내하오니 관심있는 학생분들의 많은 참석 바랍니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면담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5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수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~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0:00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~ 17:0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설명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6:00 ~ 17:3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장  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해림홀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정보통신공학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B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동 공동강의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모집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연구개발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R&amp;D)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품질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생산기술 등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공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자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컴퓨터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기계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산업공학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문  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서울 송지혜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2-2033-0573 / jhsongc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용인 강준구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31-288-9186 /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맑은 고딕"/>
                <a:ea typeface="맑은 고딕"/>
                <a:hlinkClick r:id="rId1"/>
              </a:rPr>
              <a:t>jkkang@lignex1.com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구미 박기철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54-469-8158 / kcpark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04:55:39Z</dcterms:created>
  <dc:creator>MAT</dc:creator>
  <dc:description/>
  <dc:language>en-US</dc:language>
  <cp:lastModifiedBy>김수연</cp:lastModifiedBy>
  <cp:lastPrinted>1999-10-01T05:06:01Z</cp:lastPrinted>
  <dcterms:modified xsi:type="dcterms:W3CDTF">2008-10-01T01:55:19Z</dcterms:modified>
  <cp:revision>139</cp:revision>
  <dc:subject/>
  <dc:title>슬라이드 제목 없음</dc:title>
</cp:coreProperties>
</file>